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F6F3-57CE-4E20-AA2E-5D5184F4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64D-5C8A-4A6A-B212-C0BC0DE7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867-7A97-4181-8C5E-79DC901D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D30-D2A3-4C5D-BCD0-B569EC55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9AC-86AE-4874-A345-4DE23A71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C84-3AEA-47B8-9DE2-4D757BD4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5CE-1656-4D11-AF3C-7ED28577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009-DFBB-40FD-B4B1-AB97A423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653F-02EF-43ED-988A-7346842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02D-6E4C-46D7-AE32-522611AE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250-F786-4CDF-968B-9A5B1CAA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BB8-F765-42FB-8917-7D09052F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2F44-49D4-4394-8EE8-EE02848D1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Call to Worship (la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ry to God, we cry alou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day of our trou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seek you, Go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Has your steadfast love cea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Are your promises at an 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Have you forgotten to be grac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and shut up your compa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e call God’s deeds to mi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remember your wonders of ol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muse up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mighty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Your way, O God, is holy.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salm 77:1-2, 8-9, 11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41:22Z</dcterms:created>
  <dc:creator>Anon Anon</dc:creator>
  <dc:description/>
  <dc:language>en-US</dc:language>
  <cp:lastModifiedBy>Anon Anon</cp:lastModifiedBy>
  <dcterms:modified xsi:type="dcterms:W3CDTF">2005-08-09T05:35:42Z</dcterms:modified>
  <cp:revision>10</cp:revision>
  <dc:subject/>
  <dc:title>Call to Worship (lament)</dc:title>
</cp:coreProperties>
</file>